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A0BE5-0291-4296-B2A7-C4176095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94D67-35A9-46E2-8AA7-88C169D9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5616D-5BDB-41D9-9D0F-DF0C9432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2456A-0677-4657-9A28-AB9C373E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608E4-8BFE-41A2-87E4-C6E1A892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19220-B134-49AD-8C8F-9FCC4652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8A17A-31CA-41F9-8C60-D0A3E2EB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77A7B-ACEC-4BBB-8735-E73997D2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22DCE-6FE6-4FA5-9395-07CF5916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97C17-0155-47FC-A4C6-6F712D9E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1CF2F-149A-4ED7-A8B5-82F8519A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18A54-8A18-4CB3-9CBE-97904FA3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C912-6BA9-4CF3-9CD5-75B19F7FF9E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1334880"/>
            <a:ext cx="441972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ahoma"/>
              </a:rPr>
              <a:t>Data Management Conformance (DM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GA Te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295280"/>
            <a:ext cx="69339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9" name="datamanagement3" descr=""/>
          <p:cNvPicPr/>
          <p:nvPr/>
        </p:nvPicPr>
        <p:blipFill>
          <a:blip r:embed="rId2"/>
          <a:stretch/>
        </p:blipFill>
        <p:spPr>
          <a:xfrm>
            <a:off x="1143000" y="1479600"/>
            <a:ext cx="6324480" cy="3089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33520" y="-1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Each managed_data_item references one entity inst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50277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very entity instance in a model has a item-refernece added, doubling size of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1295280"/>
            <a:ext cx="563868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494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d Transa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63796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Data_import, data_export_modification, data_export_cre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13705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Transaction history of actions per data ite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338184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ho, what, when, whe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7" name="datamanagement2" descr=""/>
          <p:cNvPicPr/>
          <p:nvPr/>
        </p:nvPicPr>
        <p:blipFill>
          <a:blip r:embed="rId2"/>
          <a:stretch/>
        </p:blipFill>
        <p:spPr>
          <a:xfrm>
            <a:off x="1600200" y="1365120"/>
            <a:ext cx="5467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748640" cy="1068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273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s Have Internal Sets of the Type of Action Tak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2742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x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28184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Im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09680" y="1981080"/>
            <a:ext cx="4114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456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Data-Item Has a Transaction Histo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4648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managed_data_item references every transaction it has ever participated in, during its DMC lif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5" name="datamanagement1-5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886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3880" y="1828800"/>
            <a:ext cx="6629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3049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 Provides a Record of Who, What, When and W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8" name="datamanagement1-3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261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3520" y="4572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DMC Manager Appli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2120" y="2057400"/>
            <a:ext cx="1904760" cy="1219320"/>
            <a:chOff x="762120" y="2057400"/>
            <a:chExt cx="1904760" cy="1219320"/>
          </a:xfrm>
        </p:grpSpPr>
        <p:sp>
          <p:nvSpPr>
            <p:cNvPr id="361" name=""/>
            <p:cNvSpPr/>
            <p:nvPr/>
          </p:nvSpPr>
          <p:spPr>
            <a:xfrm>
              <a:off x="762120" y="2057400"/>
              <a:ext cx="190476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2640" y="2210040"/>
              <a:ext cx="114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asic</a:t>
              </a: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Part-2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ile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0" y="2209680"/>
            <a:ext cx="3048120" cy="1218960"/>
            <a:chOff x="2286000" y="2209680"/>
            <a:chExt cx="3048120" cy="1218960"/>
          </a:xfrm>
        </p:grpSpPr>
        <p:sp>
          <p:nvSpPr>
            <p:cNvPr id="364" name=""/>
            <p:cNvSpPr/>
            <p:nvPr/>
          </p:nvSpPr>
          <p:spPr>
            <a:xfrm>
              <a:off x="2819520" y="2285640"/>
              <a:ext cx="2514600" cy="1008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MC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2209680"/>
              <a:ext cx="1067040" cy="121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029200" y="2209680"/>
            <a:ext cx="2590920" cy="1295280"/>
            <a:chOff x="5029200" y="2209680"/>
            <a:chExt cx="2590920" cy="1295280"/>
          </a:xfrm>
        </p:grpSpPr>
        <p:grpSp>
          <p:nvGrpSpPr>
            <p:cNvPr id="367" name=""/>
            <p:cNvGrpSpPr/>
            <p:nvPr/>
          </p:nvGrpSpPr>
          <p:grpSpPr>
            <a:xfrm>
              <a:off x="5715000" y="2209680"/>
              <a:ext cx="1905120" cy="1218960"/>
              <a:chOff x="5715000" y="2209680"/>
              <a:chExt cx="1905120" cy="1218960"/>
            </a:xfrm>
          </p:grpSpPr>
          <p:sp>
            <p:nvSpPr>
              <p:cNvPr id="368" name=""/>
              <p:cNvSpPr/>
              <p:nvPr/>
            </p:nvSpPr>
            <p:spPr>
              <a:xfrm>
                <a:off x="5715000" y="2209680"/>
                <a:ext cx="1905120" cy="121896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5880" y="236196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</a:rPr>
                  <a:t>DMC 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Part-21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029200" y="2285640"/>
              <a:ext cx="106704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144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800600" y="91440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228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ollaborative Development of a DMC Application Interfa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800600" y="914400"/>
          <a:ext cx="294012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914400"/>
                    <a:ext cx="2940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33520" y="2895480"/>
            <a:ext cx="3886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hared functionality across applications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re-link all input data with outpu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 modification, creation, dele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pdate transaction 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447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e minimal requirement of an application: track object I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1752480"/>
            <a:ext cx="5562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unique ID to each Entity instance, allowing merg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ies who, when, where for all creations, modifications and dele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a transaction and version history for audit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08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does DMC Consist of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1676520"/>
            <a:ext cx="3810240" cy="2133360"/>
            <a:chOff x="838080" y="1676520"/>
            <a:chExt cx="3810240" cy="2133360"/>
          </a:xfrm>
        </p:grpSpPr>
        <p:sp>
          <p:nvSpPr>
            <p:cNvPr id="146" name=""/>
            <p:cNvSpPr/>
            <p:nvPr/>
          </p:nvSpPr>
          <p:spPr>
            <a:xfrm>
              <a:off x="2819520" y="1676520"/>
              <a:ext cx="1828800" cy="2133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38080" y="2133720"/>
              <a:ext cx="1571400" cy="1143000"/>
              <a:chOff x="838080" y="2133720"/>
              <a:chExt cx="1571400" cy="114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838080" y="2133720"/>
                <a:ext cx="1571400" cy="114300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10960" y="2362320"/>
                <a:ext cx="1066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Part21 fil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895480" y="167652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CIS/2 in-memor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full file data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2362320"/>
              <a:ext cx="45720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95480" y="1143000"/>
            <a:ext cx="4191120" cy="3507840"/>
            <a:chOff x="2895480" y="1143000"/>
            <a:chExt cx="4191120" cy="3507840"/>
          </a:xfrm>
        </p:grpSpPr>
        <p:sp>
          <p:nvSpPr>
            <p:cNvPr id="153" name=""/>
            <p:cNvSpPr/>
            <p:nvPr/>
          </p:nvSpPr>
          <p:spPr>
            <a:xfrm flipH="1" rot="7771200">
              <a:off x="4075920" y="1637640"/>
              <a:ext cx="1219320" cy="9903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143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ata not read by application is lo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95480" y="2209680"/>
              <a:ext cx="3429000" cy="2441160"/>
              <a:chOff x="2895480" y="2209680"/>
              <a:chExt cx="3429000" cy="244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95480" y="2209680"/>
                <a:ext cx="1676520" cy="609840"/>
              </a:xfrm>
              <a:prstGeom prst="rect">
                <a:avLst/>
              </a:prstGeom>
              <a:noFill/>
              <a:ln w="284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28600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 not Rea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24280" y="3048120"/>
                <a:ext cx="457200" cy="5331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57800" y="2362320"/>
                <a:ext cx="1066680" cy="22885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Nativ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2895480" y="2895480"/>
                <a:ext cx="1752480" cy="838080"/>
                <a:chOff x="2895480" y="2895480"/>
                <a:chExt cx="1752480" cy="838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895480" y="304776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33"/>
                      </a:solidFill>
                      <a:latin typeface="Times New Roman"/>
                    </a:rPr>
                    <a:t>Extracted dat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480" y="2895480"/>
                  <a:ext cx="1676160" cy="838080"/>
                </a:xfrm>
                <a:prstGeom prst="rect">
                  <a:avLst/>
                </a:prstGeom>
                <a:noFill/>
                <a:ln w="1908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" name=""/>
          <p:cNvGrpSpPr/>
          <p:nvPr/>
        </p:nvGrpSpPr>
        <p:grpSpPr>
          <a:xfrm>
            <a:off x="685800" y="2438280"/>
            <a:ext cx="7696080" cy="3353040"/>
            <a:chOff x="685800" y="2438280"/>
            <a:chExt cx="7696080" cy="3353040"/>
          </a:xfrm>
        </p:grpSpPr>
        <p:grpSp>
          <p:nvGrpSpPr>
            <p:cNvPr id="164" name=""/>
            <p:cNvGrpSpPr/>
            <p:nvPr/>
          </p:nvGrpSpPr>
          <p:grpSpPr>
            <a:xfrm>
              <a:off x="6705720" y="2438280"/>
              <a:ext cx="1676160" cy="2210040"/>
              <a:chOff x="6705720" y="2438280"/>
              <a:chExt cx="1676160" cy="221004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0" y="2438280"/>
                <a:ext cx="1447920" cy="221004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5720" y="3124080"/>
                <a:ext cx="167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85800" y="4267080"/>
              <a:ext cx="1905120" cy="1143000"/>
              <a:chOff x="685800" y="4267080"/>
              <a:chExt cx="1905120" cy="114300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133720" y="4495680"/>
                <a:ext cx="45720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85800" y="4267080"/>
                <a:ext cx="1571400" cy="1143000"/>
                <a:chOff x="685800" y="4267080"/>
                <a:chExt cx="1571400" cy="1143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85800" y="4267080"/>
                  <a:ext cx="1571400" cy="11430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58680" y="4495680"/>
                  <a:ext cx="1066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2743200" y="4038480"/>
              <a:ext cx="1905120" cy="1752840"/>
              <a:chOff x="2743200" y="4038480"/>
              <a:chExt cx="1905120" cy="1752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038480"/>
                <a:ext cx="1905120" cy="1752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19520" y="4038480"/>
                <a:ext cx="1752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5480" y="4724280"/>
                <a:ext cx="1524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5480" y="4724280"/>
                <a:ext cx="1676520" cy="99072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4648320" y="380988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2666880"/>
              <a:ext cx="838080" cy="16765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57800" y="3809880"/>
              <a:ext cx="1066680" cy="838440"/>
              <a:chOff x="5257800" y="3809880"/>
              <a:chExt cx="1066680" cy="83844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4120" y="3886200"/>
                <a:ext cx="914400" cy="76212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57800" y="3809880"/>
                <a:ext cx="1066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Application Generate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0666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Physical members, connections, non-structural 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81080" y="1469880"/>
            <a:ext cx="4648320" cy="2022480"/>
            <a:chOff x="1981080" y="1469880"/>
            <a:chExt cx="4648320" cy="2022480"/>
          </a:xfrm>
        </p:grpSpPr>
        <p:grpSp>
          <p:nvGrpSpPr>
            <p:cNvPr id="185" name=""/>
            <p:cNvGrpSpPr/>
            <p:nvPr/>
          </p:nvGrpSpPr>
          <p:grpSpPr>
            <a:xfrm>
              <a:off x="2057400" y="1676520"/>
              <a:ext cx="2300400" cy="914400"/>
              <a:chOff x="2057400" y="1676520"/>
              <a:chExt cx="2300400" cy="914400"/>
            </a:xfrm>
          </p:grpSpPr>
          <p:sp>
            <p:nvSpPr>
              <p:cNvPr id="186" name=""/>
              <p:cNvSpPr/>
              <p:nvPr/>
            </p:nvSpPr>
            <p:spPr>
              <a:xfrm>
                <a:off x="3253680" y="1676520"/>
                <a:ext cx="110412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2057400" y="1872360"/>
                <a:ext cx="948960" cy="494280"/>
                <a:chOff x="2057400" y="1872360"/>
                <a:chExt cx="948960" cy="494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057400" y="1872360"/>
                  <a:ext cx="948960" cy="48996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1920" y="19681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298680" y="167652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31480" y="197028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 rot="7771200">
              <a:off x="4136040" y="156240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6320" y="1893960"/>
              <a:ext cx="1011240" cy="2617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182880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25252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5840" y="195912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316320" y="2187720"/>
              <a:ext cx="1057320" cy="360360"/>
              <a:chOff x="3316320" y="2187720"/>
              <a:chExt cx="1057320" cy="36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3316320" y="225252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6320" y="2187720"/>
                <a:ext cx="1011960" cy="36036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8160" y="1992240"/>
              <a:ext cx="1011240" cy="947880"/>
              <a:chOff x="5618160" y="1992240"/>
              <a:chExt cx="1011240" cy="947880"/>
            </a:xfrm>
          </p:grpSpPr>
          <p:sp>
            <p:nvSpPr>
              <p:cNvPr id="201" name=""/>
              <p:cNvSpPr/>
              <p:nvPr/>
            </p:nvSpPr>
            <p:spPr>
              <a:xfrm>
                <a:off x="5709240" y="1992240"/>
                <a:ext cx="874080" cy="94788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18160" y="22863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981080" y="2776680"/>
              <a:ext cx="1150560" cy="496800"/>
              <a:chOff x="1981080" y="2776680"/>
              <a:chExt cx="1150560" cy="49680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2855160" y="2874240"/>
                <a:ext cx="276120" cy="228240"/>
              </a:xfrm>
              <a:prstGeom prst="rightArrow">
                <a:avLst>
                  <a:gd name="adj1" fmla="val 50000"/>
                  <a:gd name="adj2" fmla="val 30244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981080" y="2776680"/>
                <a:ext cx="949320" cy="496800"/>
                <a:chOff x="1981080" y="2776680"/>
                <a:chExt cx="949320" cy="496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981080" y="2776680"/>
                  <a:ext cx="949320" cy="48888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45600" y="287496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224160" y="2678040"/>
              <a:ext cx="1149480" cy="814320"/>
              <a:chOff x="3224160" y="2678040"/>
              <a:chExt cx="1149480" cy="814320"/>
            </a:xfrm>
          </p:grpSpPr>
          <p:sp>
            <p:nvSpPr>
              <p:cNvPr id="209" name=""/>
              <p:cNvSpPr/>
              <p:nvPr/>
            </p:nvSpPr>
            <p:spPr>
              <a:xfrm>
                <a:off x="3224160" y="2678040"/>
                <a:ext cx="1149480" cy="751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1680" y="267804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15960" y="297180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15960" y="2971800"/>
                <a:ext cx="1011600" cy="4248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4372920" y="257976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0240" y="2090880"/>
              <a:ext cx="506520" cy="7174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88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1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590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38098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loads, reactions, elements &amp; no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1080" y="4060800"/>
            <a:ext cx="4648320" cy="2022120"/>
            <a:chOff x="1981080" y="4060800"/>
            <a:chExt cx="4648320" cy="2022120"/>
          </a:xfrm>
        </p:grpSpPr>
        <p:grpSp>
          <p:nvGrpSpPr>
            <p:cNvPr id="221" name=""/>
            <p:cNvGrpSpPr/>
            <p:nvPr/>
          </p:nvGrpSpPr>
          <p:grpSpPr>
            <a:xfrm>
              <a:off x="2057400" y="4267080"/>
              <a:ext cx="2300400" cy="914040"/>
              <a:chOff x="2057400" y="4267080"/>
              <a:chExt cx="2300400" cy="914040"/>
            </a:xfrm>
          </p:grpSpPr>
          <p:sp>
            <p:nvSpPr>
              <p:cNvPr id="222" name=""/>
              <p:cNvSpPr/>
              <p:nvPr/>
            </p:nvSpPr>
            <p:spPr>
              <a:xfrm>
                <a:off x="3253680" y="4267080"/>
                <a:ext cx="1104120" cy="91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057400" y="4462920"/>
                <a:ext cx="948960" cy="494280"/>
                <a:chOff x="2057400" y="4462920"/>
                <a:chExt cx="948960" cy="494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057400" y="4462920"/>
                  <a:ext cx="948960" cy="4896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221920" y="455868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298680" y="426708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31480" y="456084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7771200">
              <a:off x="4136040" y="415332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6320" y="4484520"/>
              <a:ext cx="1011240" cy="26136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441936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9720" y="484308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5840" y="454968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316320" y="4778280"/>
              <a:ext cx="1057320" cy="360000"/>
              <a:chOff x="3316320" y="4778280"/>
              <a:chExt cx="1057320" cy="36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6320" y="484308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6320" y="4778280"/>
                <a:ext cx="1011960" cy="3600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618160" y="4582800"/>
              <a:ext cx="1011240" cy="947520"/>
              <a:chOff x="5618160" y="4582800"/>
              <a:chExt cx="1011240" cy="947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709240" y="4582800"/>
                <a:ext cx="874080" cy="94752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8160" y="48765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81080" y="5367240"/>
              <a:ext cx="1150560" cy="496800"/>
              <a:chOff x="1981080" y="5367240"/>
              <a:chExt cx="1150560" cy="49680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2855160" y="5464800"/>
                <a:ext cx="276120" cy="227880"/>
              </a:xfrm>
              <a:prstGeom prst="rightArrow">
                <a:avLst>
                  <a:gd name="adj1" fmla="val 50000"/>
                  <a:gd name="adj2" fmla="val 30292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81080" y="5367240"/>
                <a:ext cx="949320" cy="496800"/>
                <a:chOff x="1981080" y="5367240"/>
                <a:chExt cx="949320" cy="4968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81080" y="5367240"/>
                  <a:ext cx="949320" cy="48852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145600" y="54655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3224160" y="5268600"/>
              <a:ext cx="1149480" cy="814320"/>
              <a:chOff x="3224160" y="5268600"/>
              <a:chExt cx="1149480" cy="814320"/>
            </a:xfrm>
          </p:grpSpPr>
          <p:sp>
            <p:nvSpPr>
              <p:cNvPr id="245" name=""/>
              <p:cNvSpPr/>
              <p:nvPr/>
            </p:nvSpPr>
            <p:spPr>
              <a:xfrm>
                <a:off x="3224160" y="5268600"/>
                <a:ext cx="1149480" cy="751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1680" y="526860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15960" y="556236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5960" y="5562360"/>
                <a:ext cx="1011600" cy="42444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4372920" y="517032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0240" y="4681440"/>
              <a:ext cx="506520" cy="7171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088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2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4648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295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Only Very Limited Workflows are Possib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2209680"/>
            <a:ext cx="8077320" cy="703800"/>
            <a:chOff x="457200" y="2209680"/>
            <a:chExt cx="8077320" cy="703800"/>
          </a:xfrm>
        </p:grpSpPr>
        <p:sp>
          <p:nvSpPr>
            <p:cNvPr id="258" name=""/>
            <p:cNvSpPr/>
            <p:nvPr/>
          </p:nvSpPr>
          <p:spPr>
            <a:xfrm>
              <a:off x="45720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480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22860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295280" y="3429000"/>
            <a:ext cx="1654200" cy="1694520"/>
            <a:chOff x="1295280" y="3429000"/>
            <a:chExt cx="1654200" cy="1694520"/>
          </a:xfrm>
        </p:grpSpPr>
        <p:sp>
          <p:nvSpPr>
            <p:cNvPr id="266" name=""/>
            <p:cNvSpPr/>
            <p:nvPr/>
          </p:nvSpPr>
          <p:spPr>
            <a:xfrm>
              <a:off x="1295280" y="342900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441972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134600">
              <a:off x="1676160" y="403812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5465400">
              <a:off x="2285640" y="40384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0920" y="3733920"/>
            <a:ext cx="2590560" cy="1389600"/>
            <a:chOff x="2590920" y="3733920"/>
            <a:chExt cx="2590560" cy="1389600"/>
          </a:xfrm>
        </p:grpSpPr>
        <p:sp>
          <p:nvSpPr>
            <p:cNvPr id="271" name=""/>
            <p:cNvSpPr/>
            <p:nvPr/>
          </p:nvSpPr>
          <p:spPr>
            <a:xfrm>
              <a:off x="335268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4956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920" y="3733920"/>
              <a:ext cx="1066680" cy="838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503751"/>
                  <a:lnTo>
                    <a:pt x="10474" y="5"/>
                  </a:lnTo>
                  <a:arcTo wR="10800" hR="10800" stAng="-5503751" swAng="550375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181120" y="4343400"/>
            <a:ext cx="2210400" cy="990720"/>
            <a:chOff x="5181120" y="4343400"/>
            <a:chExt cx="2210400" cy="990720"/>
          </a:xfrm>
        </p:grpSpPr>
        <p:sp>
          <p:nvSpPr>
            <p:cNvPr id="275" name=""/>
            <p:cNvSpPr/>
            <p:nvPr/>
          </p:nvSpPr>
          <p:spPr>
            <a:xfrm>
              <a:off x="556272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8006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180760" y="43434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133720" y="4495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NOT SUPPORTED!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200400" y="3429000"/>
            <a:ext cx="3886200" cy="2514600"/>
            <a:chOff x="3200400" y="3429000"/>
            <a:chExt cx="3886200" cy="2514600"/>
          </a:xfrm>
        </p:grpSpPr>
        <p:sp>
          <p:nvSpPr>
            <p:cNvPr id="281" name=""/>
            <p:cNvSpPr/>
            <p:nvPr/>
          </p:nvSpPr>
          <p:spPr>
            <a:xfrm>
              <a:off x="3200400" y="3429000"/>
              <a:ext cx="3886200" cy="2514600"/>
            </a:xfrm>
            <a:custGeom>
              <a:avLst/>
              <a:gdLst/>
              <a:ahLst/>
              <a:rect l="l" t="t" r="r" b="b"/>
              <a:pathLst>
                <a:path w="2448" h="1584">
                  <a:moveTo>
                    <a:pt x="48" y="0"/>
                  </a:moveTo>
                  <a:lnTo>
                    <a:pt x="1296" y="0"/>
                  </a:lnTo>
                  <a:lnTo>
                    <a:pt x="2448" y="768"/>
                  </a:lnTo>
                  <a:lnTo>
                    <a:pt x="2448" y="1584"/>
                  </a:lnTo>
                  <a:lnTo>
                    <a:pt x="1104" y="1584"/>
                  </a:lnTo>
                  <a:lnTo>
                    <a:pt x="816" y="864"/>
                  </a:lnTo>
                  <a:lnTo>
                    <a:pt x="0" y="86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5efd5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76920" y="3962520"/>
              <a:ext cx="1143000" cy="459720"/>
            </a:xfrm>
            <a:prstGeom prst="rect">
              <a:avLst/>
            </a:prstGeom>
            <a:solidFill>
              <a:srgbClr val="d5e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ahoma"/>
                </a:rPr>
                <a:t>merg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Merging of multiple files into a single o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49528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134600">
            <a:off x="2285640" y="44953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 rot="5465400">
            <a:off x="3809880" y="44956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76520" y="3352680"/>
            <a:ext cx="1600200" cy="1219320"/>
            <a:chOff x="1676520" y="3352680"/>
            <a:chExt cx="1600200" cy="1219320"/>
          </a:xfrm>
        </p:grpSpPr>
        <p:sp>
          <p:nvSpPr>
            <p:cNvPr id="290" name=""/>
            <p:cNvSpPr/>
            <p:nvPr/>
          </p:nvSpPr>
          <p:spPr>
            <a:xfrm>
              <a:off x="1676520" y="3352680"/>
              <a:ext cx="160020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3352680"/>
              <a:ext cx="10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, layout &amp; load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352680" y="3581280"/>
            <a:ext cx="1555560" cy="990720"/>
            <a:chOff x="3352680" y="3581280"/>
            <a:chExt cx="1555560" cy="990720"/>
          </a:xfrm>
        </p:grpSpPr>
        <p:sp>
          <p:nvSpPr>
            <p:cNvPr id="293" name=""/>
            <p:cNvSpPr/>
            <p:nvPr/>
          </p:nvSpPr>
          <p:spPr>
            <a:xfrm>
              <a:off x="3352680" y="3581280"/>
              <a:ext cx="1523880" cy="9907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1280" y="3581280"/>
              <a:ext cx="132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 w/ reaction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029200" y="4648320"/>
            <a:ext cx="1752480" cy="121896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4648320"/>
            <a:ext cx="13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 rot="5465400">
            <a:off x="3733560" y="3047040"/>
            <a:ext cx="53316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429000" y="3429000"/>
            <a:ext cx="304812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12408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295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Running an application on a dataset without any loss of unread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51814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134600">
            <a:off x="22096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5465400">
            <a:off x="38098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352680"/>
            <a:ext cx="228600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3352680"/>
            <a:ext cx="21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42900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Times New Roman"/>
              </a:rPr>
              <a:t>w/ reactions adde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 rot="5465400">
            <a:off x="3771720" y="30099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25909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out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4114800" y="4876920"/>
            <a:ext cx="1905120" cy="1218960"/>
            <a:chOff x="4114800" y="4876920"/>
            <a:chExt cx="1905120" cy="1218960"/>
          </a:xfrm>
        </p:grpSpPr>
        <p:sp>
          <p:nvSpPr>
            <p:cNvPr id="316" name=""/>
            <p:cNvSpPr/>
            <p:nvPr/>
          </p:nvSpPr>
          <p:spPr>
            <a:xfrm>
              <a:off x="4114800" y="4876920"/>
              <a:ext cx="190512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4876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w/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Incremental update of datas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3809880"/>
            <a:ext cx="106704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4114800"/>
            <a:ext cx="26672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hop draw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88620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4114800"/>
            <a:ext cx="26668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abrication managemen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33920" y="2133720"/>
            <a:ext cx="2245680" cy="2879280"/>
            <a:chOff x="3733920" y="2133720"/>
            <a:chExt cx="2245680" cy="2879280"/>
          </a:xfrm>
        </p:grpSpPr>
        <p:sp>
          <p:nvSpPr>
            <p:cNvPr id="325" name=""/>
            <p:cNvSpPr/>
            <p:nvPr/>
          </p:nvSpPr>
          <p:spPr>
            <a:xfrm rot="969600">
              <a:off x="4038480" y="3200040"/>
              <a:ext cx="1752840" cy="160020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67" y="15076"/>
                  </a:moveTo>
                  <a:arcTo wR="-7477" hR="-7477" stAng="8706805" swAng="-8792921"/>
                  <a:lnTo>
                    <a:pt x="3" y="11071"/>
                  </a:lnTo>
                  <a:arcTo wR="10800" hR="10800" stAng="10713884" swAng="8792921"/>
                  <a:lnTo>
                    <a:pt x="21874" y="3079"/>
                  </a:lnTo>
                  <a:lnTo>
                    <a:pt x="20791" y="9151"/>
                  </a:lnTo>
                  <a:lnTo>
                    <a:pt x="14719" y="8068"/>
                  </a:lnTo>
                  <a:close/>
                </a:path>
              </a:pathLst>
            </a:cu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3920" y="2133720"/>
              <a:ext cx="220968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62520" y="21337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update: changed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28600" y="51814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Also 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90720" y="1371600"/>
            <a:ext cx="7086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708600" cy="298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733920" y="5713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pplic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authorizing organiz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723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ll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SW compan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50281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nce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local install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6151200">
            <a:off x="2171520" y="453384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3262800">
            <a:off x="6705720" y="4038480"/>
            <a:ext cx="1066680" cy="4572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6921600">
            <a:off x="4255560" y="4903560"/>
            <a:ext cx="1295640" cy="457200"/>
          </a:xfrm>
          <a:prstGeom prst="leftArrow">
            <a:avLst>
              <a:gd name="adj1" fmla="val 50000"/>
              <a:gd name="adj2" fmla="val 70846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209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nique ID is three integers, assigned by different grou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5:12:53Z</dcterms:created>
  <dc:creator>Eastman</dc:creator>
  <dc:description/>
  <dc:language>en-US</dc:language>
  <cp:lastModifiedBy>fwang</cp:lastModifiedBy>
  <dcterms:modified xsi:type="dcterms:W3CDTF">2002-05-06T15:45:39Z</dcterms:modified>
  <cp:revision>9</cp:revision>
  <dc:subject/>
  <dc:title>No Slide Title</dc:title>
</cp:coreProperties>
</file>